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CD4F6-FD89-43AA-98A2-E75E64DE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294F-F6AA-4387-8A14-57B8B6B3F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8AE0-129A-4BA7-B3D2-466404B4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B442-F9EC-4FD9-90C4-0A1617AB6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585A1-27F2-444D-AEB5-118F5E523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E532-6795-4BDA-B11F-7D131CF7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F22C2-6FB5-4D8B-9AF4-5086C97FF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BE9D-109E-47CA-AA89-F3CC2186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A128E-8580-4A18-BD2C-5DAB43AF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BFFA-15BA-41B4-8216-16CDE4630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90CC-F95B-464A-89E7-D77EC72A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82C0-3B63-4C27-AA3C-8C0E4532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5D18-E8A4-48BF-9898-4D923A97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0F2B-4E04-448F-9CD5-1AAD5555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D6ECE-154B-4CEE-8A32-B027FBE09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403D1-BC37-4281-89B2-D2998B7C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5F4E9-AA10-4AA7-AE21-2D1CB9161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D201-E3BD-4A65-9933-9AA7C0738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3EFE-2960-449F-ACF5-F9EE4F0D1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28E3-4BA8-4C94-A898-ADFCBE06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D713-45BC-4228-8E1D-AA06DD3DF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3E56-1565-4234-B20B-3270F7BCC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FA4A6-3DA2-4DB6-9F9E-5104BBC3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4267-8515-4652-90BE-8A636C15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6B5BC-9AD0-4B0F-9364-59D882C53CF8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22AA-BE4B-46F4-9559-73FD38EF9AC6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images.china.cn/images1/200510/206919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          </a:t>
            </a: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Природа и человек 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50920" y="620640"/>
            <a:ext cx="1871640" cy="1920960"/>
            <a:chOff x="250920" y="620640"/>
            <a:chExt cx="1871640" cy="1920960"/>
          </a:xfrm>
        </p:grpSpPr>
        <p:sp>
          <p:nvSpPr>
            <p:cNvPr id="100" name=""/>
            <p:cNvSpPr/>
            <p:nvPr/>
          </p:nvSpPr>
          <p:spPr>
            <a:xfrm>
              <a:off x="320400" y="693720"/>
              <a:ext cx="1718640" cy="172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50920" y="620640"/>
              <a:ext cx="1871640" cy="19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23640" y="134136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Земля – колыбель человека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27640" y="2492280"/>
            <a:ext cx="2417760" cy="3313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00000" y="3213000"/>
            <a:ext cx="478476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Любовь к природе, впрочем как и всякая человеческая любовь, несомненно, закладывается у нас с детства.                                  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Arial"/>
              </a:rPr>
              <a:t>И. Соколов- Микитов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0072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Человек рождён природой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Относись к ней как к матери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771640" y="1268280"/>
            <a:ext cx="583272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История Дня Земли началась в 1840 г., когда Дж.Стерлинг Мортон переехал со своей семьей на территорию штата Небраск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381040" cy="190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10103" t="23870" r="9347" b="-143"/>
          <a:stretch/>
        </p:blipFill>
        <p:spPr>
          <a:xfrm>
            <a:off x="6710400" y="2997360"/>
            <a:ext cx="1928880" cy="3860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3573360"/>
            <a:ext cx="590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Бескрайние прерии с одинокими деревьями, солнце и ветер, от которых негде было укрыться, и иссушенная земля привели Мортона к идее озеленения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4681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Он предложил установить день, посвященный озеленению и учредить призы для тех, кто высадит наибольшее количество деревьев. Так в штате Небраска появил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ень Дерева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. В 1882 г. День Дерева был объявлен официальным праздником штата и стал отмечать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22 апреля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, в день рождения Мортон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16720" y="1197000"/>
            <a:ext cx="1847880" cy="2343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48360" y="3068640"/>
            <a:ext cx="2857320" cy="1876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4869000"/>
            <a:ext cx="1800360" cy="1358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148360" y="537372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321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С 1970 г. идея праздника сменилась. В 1969 году произошла страшная экологическая катастрофа возле американского города Санта-Барбара. Тогда миллионы тонн нефти, вылившейся из скважин, погубили множество пеликанов, журавлей, уток, морских львов, других животных, погибли гектары растительности, была отравлена вода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857680" cy="2105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2879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5041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3729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С тех пор ведущую роль в праздновании стали играть охрана окружающей среды, экологическое образование и экопросвещение. Появилось и новое название -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ень Земли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. Через несколько лет праздник стал всемирным. Начиная с 1990 г. в празднование включились и российские организации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8917" t="0" r="19567" b="0"/>
          <a:stretch/>
        </p:blipFill>
        <p:spPr>
          <a:xfrm>
            <a:off x="5364000" y="1628640"/>
            <a:ext cx="35290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724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Перед нами стоит выбор: создать всеобщее содружество и заботиться о Земле, друг о друге либо рисковать разрушением самих себя и всего разнообразия жизни. Мы обладаем достаточными знаниями и технологиями для обеспечения потребностей всех людей и сокращения воздействия на окружающую среду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2194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Природа и челове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321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Охрану природы я считаю делом святым. Это – сохранение и умножение красот Родины.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6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Л. Леонов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68840" y="1341360"/>
            <a:ext cx="3646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0:51:45Z</dcterms:created>
  <dc:creator>01</dc:creator>
  <dc:description/>
  <dc:language>en-US</dc:language>
  <cp:lastModifiedBy>molinfo</cp:lastModifiedBy>
  <dcterms:modified xsi:type="dcterms:W3CDTF">2008-01-09T06:05:10Z</dcterms:modified>
  <cp:revision>8</cp:revision>
  <dc:subject/>
  <dc:title>22 апреля - День Земли </dc:title>
</cp:coreProperties>
</file>